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043-DB3A-4BA1-A041-D2668ED1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288-9311-455D-8EDF-B9A457A8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0C0-20FE-429D-AA07-0B35F6B6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35E-E5C3-4643-A8CC-5AA7FE15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0480-ADCE-482C-9287-7DBDF13E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04D4-EDDD-49AC-B953-6EC843A6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4AD3-56B8-4FA9-8E06-C9BCCDF9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8E92-839C-4FC9-97C1-BB7EB378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D4EE-410F-4B3A-8FAD-121B7444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3336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2BEA-3287-4085-AA81-D16028ED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589E-DBCA-4C0D-BBD8-EA663239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851-02C5-438B-9592-5F76507F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A373-A4D2-4D96-91C7-0797777E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3F43-7A75-4CD1-9EA0-20B81760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8AF4-6B19-4C2B-B477-B07DFD6C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66CE-C01B-4692-A383-9B96E161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B1A2-B9EA-4CDC-9CCE-21765E70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36A-5E1B-411C-82C1-1C8F6C2B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E1D-4A95-4E4C-8485-E00BB19D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D94-642D-40AE-B39C-E6C3BA46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13336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B17-0FF4-43BD-BA81-A358687D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1D4-112D-4B73-993F-E1770004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77E-DBE1-43FF-9D30-C4CB374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943-05CF-4EF2-898C-65AFEB29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3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E825-51E4-40C5-8FF0-BDAAB95CD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032520"/>
            <a:ext cx="9144000" cy="825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172200"/>
            <a:ext cx="3352680" cy="423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95920"/>
            <a:ext cx="9144000" cy="262080"/>
          </a:xfrm>
          <a:prstGeom prst="rect">
            <a:avLst/>
          </a:prstGeom>
          <a:solidFill>
            <a:srgbClr val="003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31680"/>
            <a:ext cx="2133720" cy="118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3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71D7-5BA0-4FC2-977C-3F40F9382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032520"/>
            <a:ext cx="9144000" cy="82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172200"/>
            <a:ext cx="3352680" cy="422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81880"/>
            <a:ext cx="9144000" cy="276120"/>
          </a:xfrm>
          <a:prstGeom prst="rect">
            <a:avLst/>
          </a:prstGeom>
          <a:solidFill>
            <a:srgbClr val="0033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Frequent Flyer Madnes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ina Greenber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Joshua Kurtzi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etsy Schmand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oms Silin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sa Urre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he Model (2)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752480"/>
            <a:ext cx="1447920" cy="13716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 Ti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61920" y="17524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88480" y="15238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9040" y="20574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0600" y="2743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55600" y="350532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$.15 per 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31560" y="441972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$.15 per 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666880"/>
            <a:ext cx="1828800" cy="1752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en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 mi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22720" y="2757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5360" y="41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657600"/>
            <a:ext cx="167652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251460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F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5181480"/>
            <a:ext cx="152424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447920" y="19047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819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362320" y="16761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1981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809880" y="30477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5440" y="40543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05720" y="3885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41148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077320" y="3200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433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1676520"/>
            <a:ext cx="1409760" cy="1218960"/>
          </a:xfrm>
          <a:custGeom>
            <a:avLst/>
            <a:gdLst/>
            <a:ahLst/>
            <a:rect l="l" t="t" r="r" b="b"/>
            <a:pathLst>
              <a:path w="888" h="768">
                <a:moveTo>
                  <a:pt x="432" y="768"/>
                </a:moveTo>
                <a:cubicBezTo>
                  <a:pt x="660" y="568"/>
                  <a:pt x="888" y="368"/>
                  <a:pt x="816" y="240"/>
                </a:cubicBezTo>
                <a:cubicBezTo>
                  <a:pt x="744" y="112"/>
                  <a:pt x="144" y="4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133720"/>
            <a:ext cx="990720" cy="731880"/>
          </a:xfrm>
          <a:custGeom>
            <a:avLst/>
            <a:gdLst/>
            <a:ahLst/>
            <a:rect l="l" t="t" r="r" b="b"/>
            <a:pathLst>
              <a:path w="592" h="560">
                <a:moveTo>
                  <a:pt x="384" y="560"/>
                </a:moveTo>
                <a:cubicBezTo>
                  <a:pt x="488" y="360"/>
                  <a:pt x="592" y="160"/>
                  <a:pt x="528" y="80"/>
                </a:cubicBezTo>
                <a:cubicBezTo>
                  <a:pt x="464" y="0"/>
                  <a:pt x="88" y="80"/>
                  <a:pt x="0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3124080" cy="302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76720" y="1600200"/>
            <a:ext cx="2652480" cy="394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67320" y="28195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sten your seatbelt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Suggested Improvements</a:t>
            </a:r>
            <a:endParaRPr b="0" lang="en-US" sz="4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tegrate more airlin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crease number of city pai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se more dynamic pricing, seat availability, standard deviations, etc. dat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ailor utility (objective) function to encompass cash available, miles objective and trip necessity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836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0" y="1371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What’s the deal with frequent flyer miles?</a:t>
            </a:r>
            <a:endParaRPr b="0" lang="en-US" sz="4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merican Airlines launched in 198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r repeat purchases and loyal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ver 80 million frequent flie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5% of seats are for award ticke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F partner with hotels and rental car agenc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Perquisites of FF Programs</a:t>
            </a:r>
            <a:endParaRPr b="0" lang="en-US" sz="40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Josh has no miles on AA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6705360" cy="4859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36365" t="42340" r="17048" b="41984"/>
          <a:stretch/>
        </p:blipFill>
        <p:spPr>
          <a:xfrm>
            <a:off x="2971800" y="3276720"/>
            <a:ext cx="3124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Objective Function(s)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bjective Function(s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miles ear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cash out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ecision Variabl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F m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onstraints (1)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ity pairing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ate of trav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affects availability of FF seats and price of ticke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ality—peak vs. off-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efore travel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ass of servi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vs. busines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onstraints (2)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lite status (or lack thereof for poor Stern students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inum members have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F miles availabl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estinations and classes require different mile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S-MIA: 25,000 (Econo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S-LHR: 40,000 (Econo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S-LHR: 90,000 (Busi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hat is Price Threshold?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eryone has a reference price when they think about air tra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NYC to LAX ~ $500, NYC - ORD ~ $3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ariability impacts price. Actual prices may be $220 - $800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randomness in the system is what we’re trying to mod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he Model (1)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876920" y="1981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28954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7840" y="1843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69120" y="2743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828800"/>
            <a:ext cx="2743200" cy="198108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ty Pai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vel Da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e Thresho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ass of Fl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# FF mi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2057400"/>
            <a:ext cx="1295280" cy="106668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362320"/>
            <a:ext cx="1600200" cy="1447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2960" y="365760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37160" y="380988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4876920"/>
            <a:ext cx="1371600" cy="6858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248160" y="3429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1" idx="0"/>
            <a:endCxn id="113" idx="0"/>
          </p:cNvCxnSpPr>
          <p:nvPr/>
        </p:nvCxnSpPr>
        <p:spPr>
          <a:xfrm rot="5400000">
            <a:off x="3583080" y="-141480"/>
            <a:ext cx="183240" cy="4150440"/>
          </a:xfrm>
          <a:prstGeom prst="curvedConnector5">
            <a:avLst>
              <a:gd name="adj1" fmla="val -241732"/>
              <a:gd name="adj2" fmla="val 50000"/>
              <a:gd name="adj3" fmla="val -2417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7:06:02Z</dcterms:created>
  <dc:creator>Betsy Schmandt</dc:creator>
  <dc:description/>
  <dc:language>en-US</dc:language>
  <cp:lastModifiedBy>baseuser</cp:lastModifiedBy>
  <dcterms:modified xsi:type="dcterms:W3CDTF">2004-05-02T19:13:21Z</dcterms:modified>
  <cp:revision>19</cp:revision>
  <dc:subject/>
  <dc:title>Slide 1</dc:title>
</cp:coreProperties>
</file>